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E22-5C6F-4C15-8453-2975CAC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2D9-E063-4FB0-9AAA-44FFD449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A07-7AD9-42D3-881C-C090D631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4F5-65ED-4223-8C86-500D1136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EDC6-CAD3-4071-9D2F-8CDD2CE1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50C1-00AD-4F25-B10A-07C71CA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3EA5-1436-4847-B8B6-C0705B1D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5AC2-8E2A-4115-BCBE-3060B428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8C13-77F7-4309-81B6-2B3CFC0B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B04-DB7C-47BA-8475-2FF1F3BE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18F3-EC10-46C9-B20B-12FB4E9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009-5F0C-47EB-87EE-256A58D1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59D2-F37D-4D35-AF5D-D2EC50D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C1D3-705E-4216-993C-9C3AB358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9AB2-0ACB-43DA-A899-9EB55754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B2F1-A9FE-41B9-9E55-26E97AF2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927D-2162-4A35-845F-6EBB73F0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41A5-5EBE-4D33-B748-8294D89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2068-737E-4928-BBF4-6506033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DFB8-47D4-4B9D-9D99-74265A6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B4AA-8F85-47B3-8DDA-DD3BFC55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F484-73E4-4A52-ABF2-9E9827CB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006-D3C2-457C-B4AE-544C24D8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C2AB-39C7-4224-B070-FA9A4B64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EE02-935D-4B5E-8C93-84C7EF2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D357-20C4-4026-B289-F6908AE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7DF3-B5FE-4E27-90CE-6D74CEB3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B5C2-4E2A-483B-A4B5-D8AE0171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4D08-12C8-4FB4-9B42-7FCBC8BC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51EA-BCB1-4EE3-B93A-7A42AE13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7AA7-8329-439B-A0D6-11DF2A67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D1EF-16AA-4917-AA79-B7364098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E008-C8EC-487D-BF93-CA98DF6C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8AF-FDD7-4E78-AA46-0F5993E7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3B53-0057-4BFA-9E83-BF3DE84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E83E-0F09-482E-B035-28A2F43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DF73-9EC0-46A0-9111-DDBF848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7DA9-BD4E-4438-8F8B-74115A7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A5D3-AE54-4CC2-BB8D-01C4C99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1096-295C-4DD1-AAB0-07EA865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7353-0B62-4E31-8931-19B9210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9372-0FD9-4A27-A764-7DA1BD42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0E82-DD2F-4C6F-B864-49066335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2DBB-867C-4F83-8EC3-F8333384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BAA-C2F3-41A4-94AE-B0BB5E1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80C8-19D5-4BC4-ADD7-56D73290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F3F87-61E1-4F83-AC5A-6924727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51F0-C08F-4091-95DD-C569C7C0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541A1-5DED-40EC-8827-F9CCA68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898F-9734-4B98-BD0D-E49E631B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32AF-68F7-4865-9829-F6BD1EAA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9C9A-F3CA-4FF5-B015-C7FDBA1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79D58-6418-4A54-BF8D-6A8AE1B1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A728-E990-4303-83DC-AA41052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08D5-85E0-4702-AE1C-1F67F624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2B9-B413-472D-988B-C8ABA8DC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5FA6-DF2C-42BC-BD13-50FB302E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E6B-5FB0-44DA-8836-90BD3DC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0B4-7097-49C7-BF35-C7117CE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FB3-A1C5-4299-8945-9DEC398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33C88-9295-4408-914D-8083D64175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1F921-05D8-4E5D-9702-44DCD8901C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D9060-37C7-4071-A706-A4854A4FE2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736CB-0B91-41AC-8599-7F3F7FFD6A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A11C1-7A50-4B74-885D-9C4B10DD95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ricscheske.com/blog/wp-content/uploads/2008/10/schizoid.jpg&amp;imgrefurl=http://www.ericscheske.com/blog/?p=6231&amp;usg=__trhIFO4fynEgSmHFv-2IBBTNBug=&amp;h=375&amp;w=500&amp;sz=90&amp;hl=en&amp;start=6&amp;um=1&amp;tbnid=8GjaUBb2QNl9FM:&amp;tbnh=98&amp;tbnw=130&amp;prev=/images?q=schizoid&amp;hl=en&amp;rls=ADBS,ADBS:2007-11,ADBS:en&amp;u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ehow.com/images/GlobalPhoto/Articles/4560241/Hannibal-main_Full.jpg&amp;imgrefurl=http://www.ehow.com/how_4560241_recognize-antisocial-personality-disorder.html&amp;usg=__VyFmjEK8Cz_DmzMgzhzKeZl6tbE=&amp;h=291&amp;w=299&amp;sz=18&amp;hl=en&amp;start=59&amp;tbnid=dGQhUQtpVF4LAM:&amp;tbnh=113&amp;tbnw=116&amp;prev=/images?q=antisocial+personality+disorder&amp;gbv=2&amp;ndsp=20&amp;hl=en&amp;sa=N&amp;start=4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8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Personality Disorder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2057400" y="3200400"/>
            <a:ext cx="8229600" cy="0"/>
          </a:xfrm>
          <a:prstGeom prst="line">
            <a:avLst/>
          </a:prstGeom>
          <a:ln w="381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tisocial Personality Disord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77880" y="210456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4 times more common in men than wome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Often arrested, therefore researchers frequently look at prison population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20720" indent="-277200"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igher rates of alcoholism/substance use disorder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7A1FA-A0E9-4DD3-871D-E93E3ED63396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360" y="533520"/>
            <a:ext cx="858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679400" y="63000"/>
            <a:ext cx="684072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rderline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031840" y="2095560"/>
            <a:ext cx="6774120" cy="63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ve or more of the following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Frantic efforts to avoid abandon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Unstable and intense relationship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Unstable self ima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Impulsivity (self destructiv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Suicidal behavi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Affective inst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Chronic feelings of emptin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Inappropriate, intense ang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8947080" y="2644920"/>
            <a:ext cx="228600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92360" y="314280"/>
            <a:ext cx="8580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79040" y="1297080"/>
            <a:ext cx="714708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Aft>
                <a:spcPts val="601"/>
              </a:spcAft>
              <a:buClr>
                <a:srgbClr val="8d1515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rionic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ve or more of the following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ncomfortable if not the center of atten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appropriately seductive or provocati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apidly shifting and shallow emo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se of appearance to draw attention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peech is impressionistic and lacking in deta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elf-dramatization, theatrica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uggesti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iders relationships more intimate than they a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d1515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6" descr="http://tbn0.google.com/images?q=tbn:BVLg4A81gz9ouM:http://farm3.static.flickr.com/2101/1722871852_eed11f8d49.jpg"/>
          <p:cNvPicPr/>
          <p:nvPr/>
        </p:nvPicPr>
        <p:blipFill>
          <a:blip r:embed="rId1"/>
          <a:stretch/>
        </p:blipFill>
        <p:spPr>
          <a:xfrm>
            <a:off x="8699400" y="2019240"/>
            <a:ext cx="1727280" cy="43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92360" y="326520"/>
            <a:ext cx="85802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79400" y="1373040"/>
            <a:ext cx="8352000" cy="54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rcissistic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randiose sense of self-import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eoccupied with fantasies of unlimited success, power, brilliance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Belief that he or she is “special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quires excessive admir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ense of entitle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rpersonally exploitati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acks empath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ften envio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rrogant or haugh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MCPE06903_0000[1]"/>
          <p:cNvPicPr/>
          <p:nvPr/>
        </p:nvPicPr>
        <p:blipFill>
          <a:blip r:embed="rId1"/>
          <a:stretch/>
        </p:blipFill>
        <p:spPr>
          <a:xfrm flipH="1">
            <a:off x="8016840" y="3290760"/>
            <a:ext cx="3573360" cy="33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ow Do Theorists Expl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Narcissistic Personality Disorder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marL="231480" indent="-23148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sychodynamic theorists more than others have theorized about this disorder, focusing on cold, rejecting par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01560" indent="-23148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pret this grandiose self-presentation as a way for people with this disorder to convince themselves that they are self-sufficient and without need of warm relationship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01560" indent="-23148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earch has found increased risk for developing the disorder among abused children and those who lost parents through adoption, divorce, or deat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478C9-F869-454F-92A5-D8D5F4006E8F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ow Do Theorists Expl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Narcissistic Personality Disorder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gnitive-behavioral theorists propose that narcissistic personality disorder may develop when people are t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too positivel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ther than too negatively in early li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spcBef>
                <a:spcPts val="4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ose with the disorder have been taught to “overvalue their self-worth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BABFE-FA7E-4F60-B76C-2A7E2473ADE0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92360" y="314280"/>
            <a:ext cx="8580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76360" y="1372680"/>
            <a:ext cx="68407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oidant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600200" y="1968480"/>
            <a:ext cx="855972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Avoids activities due to fear of criticism, disapproval or reje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Unwilling to get involved with people unless certain of being lik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Restrained in relationships due to fear of being shamed or ridicul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Preoccupied with criticism or rejection in social situ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Inhibited in new situations due to feelings of inadequac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Views self as inept, unappealing, inferi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Reluctant to take personal risk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Picture 8" descr="http://tbn3.google.com/images?q=tbn:r5IfG3jIgetIqM:http://joyfulsky.weebly.com/uploads/1/4/3/9/143995/5161319.bmp"/>
          <p:cNvPicPr/>
          <p:nvPr/>
        </p:nvPicPr>
        <p:blipFill>
          <a:blip r:embed="rId1"/>
          <a:stretch/>
        </p:blipFill>
        <p:spPr>
          <a:xfrm>
            <a:off x="9083520" y="173160"/>
            <a:ext cx="2882880" cy="24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360" y="326520"/>
            <a:ext cx="85802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79400" y="1372680"/>
            <a:ext cx="684072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ent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52360" y="1892160"/>
            <a:ext cx="951552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ve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Excessive need for advice and reassurance to mak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decisio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Needs others to assume responsibility for most area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of lif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Difficulty expressing disagreemen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Difficulty initiating or doing things on ow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Goes to excessive lengths for nurturance or suppor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Feels helpless when alone, due to exaggerated fear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of being unable to care for self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Urgently seeks new relationship if close relationship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end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Preoccupied with fears of being left to care for self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14" descr="http://www.cartoonstock.com/lowres/for0272l.jpg"/>
          <p:cNvPicPr/>
          <p:nvPr/>
        </p:nvPicPr>
        <p:blipFill>
          <a:blip r:embed="rId1"/>
          <a:stretch/>
        </p:blipFill>
        <p:spPr>
          <a:xfrm>
            <a:off x="9196560" y="3246480"/>
            <a:ext cx="294300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3560" y="314280"/>
            <a:ext cx="11441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5080" y="1372680"/>
            <a:ext cx="1213668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ssive-Compulsive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06520" y="1981080"/>
            <a:ext cx="5367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rsonality traits involving preoccupation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orderlines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erfectionism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ontro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t the expense of spontaneity, flexibility, and enjoy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5" descr="MPj03872990000[1]"/>
          <p:cNvPicPr/>
          <p:nvPr/>
        </p:nvPicPr>
        <p:blipFill>
          <a:blip r:embed="rId1"/>
          <a:stretch/>
        </p:blipFill>
        <p:spPr>
          <a:xfrm>
            <a:off x="7945560" y="2413080"/>
            <a:ext cx="3479760" cy="3657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3560" y="314280"/>
            <a:ext cx="11441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08080" y="1372680"/>
            <a:ext cx="117108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ssive-Compulsive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11360" y="1828800"/>
            <a:ext cx="111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Picture 8" descr="MPj04088840000[1]"/>
          <p:cNvPicPr/>
          <p:nvPr/>
        </p:nvPicPr>
        <p:blipFill>
          <a:blip r:embed="rId1"/>
          <a:srcRect l="0" t="0" r="28452" b="0"/>
          <a:stretch/>
        </p:blipFill>
        <p:spPr>
          <a:xfrm>
            <a:off x="9466200" y="4127400"/>
            <a:ext cx="2421000" cy="25401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5" name="Text Box 9"/>
          <p:cNvSpPr/>
          <p:nvPr/>
        </p:nvSpPr>
        <p:spPr>
          <a:xfrm>
            <a:off x="271440" y="4533840"/>
            <a:ext cx="90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490760" y="2400480"/>
            <a:ext cx="1070136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Preoccupation with rules, lists, order, schedules, etc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Perfectionism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Excessive devotion to work and productivity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Over-conscientious, scrupulous, inflexible about morality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Inability to discard worn-out or worthless object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Reluctance to delegate tasks or work with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   </a:t>
            </a: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others unless they submit to exactly his or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   </a:t>
            </a: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her way of doing thing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Miserly spending style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Rigidity and stubbornnes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84280" y="1810800"/>
            <a:ext cx="10018800" cy="49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is personality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ity is a unique and long-term pattern of inner experience and outward behavi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so flexible, allowing us to learn and adapt to new environ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those with personality disorders, however, that flexibility is usually miss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32F44-9D6C-44DC-A7B4-F6353E1719C2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ersonality disorder typically becomes recognizable in adolescence or early adulthood and symptoms last for yea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ong the most difficult psychological disorders to trea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sufferers are not even aware of their personality disord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stimated that 9% to 13% of all adults may have a personality disord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1C15F-60EB-41C4-A649-7033E6E4A5B8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30492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assifying Personality Disord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84280" y="1690560"/>
            <a:ext cx="1001880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DSM-5 identifies ten personality disorders and separates these into three groups or </a:t>
            </a:r>
            <a:r>
              <a:rPr b="0" lang="ja-JP" sz="2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usters</a:t>
            </a:r>
            <a:r>
              <a:rPr b="0" lang="ja-JP" sz="2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dd or eccentric behavi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2788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anoid, schizoid, and schizotypa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amatic, emotional, or erratic behavi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2788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tisocial, borderline, histrionic, and narcissist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xious or fearful behavi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2788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voidant, dependent, and obsessive-compuls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8DCA6-AAE6-4467-8127-CDAD23B18524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2360" y="225360"/>
            <a:ext cx="8580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assifying Personality Disorder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43120" y="1932120"/>
            <a:ext cx="360360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rbel"/>
              </a:rPr>
              <a:t>Odd or eccentric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reme suspiciousness, social withdrawal, and peculiar ways of thinking and perceiving thing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4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6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8" name="Picture 6" descr="http://www.philosophicalrabbit.com/photos/uncategorized/2007/10/21/paranoia500.jpg"/>
          <p:cNvPicPr/>
          <p:nvPr/>
        </p:nvPicPr>
        <p:blipFill>
          <a:blip r:embed="rId1"/>
          <a:stretch/>
        </p:blipFill>
        <p:spPr>
          <a:xfrm>
            <a:off x="5905440" y="2095560"/>
            <a:ext cx="36957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04960" y="293760"/>
            <a:ext cx="950904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noid Personality Disorde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ur or mo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following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uspiciousness of oth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njustified doubts about disloyal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luctance to confide in oth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ading threatening meanings into insignificant ev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ersistent tendency to bear grudg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endency to feel attacked and counterattac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njustified suspiciousness about infidelity of part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0" name="Picture 4" descr="szajiw11[1]"/>
          <p:cNvPicPr/>
          <p:nvPr/>
        </p:nvPicPr>
        <p:blipFill>
          <a:blip r:embed="rId1"/>
          <a:stretch/>
        </p:blipFill>
        <p:spPr>
          <a:xfrm>
            <a:off x="8159760" y="1359000"/>
            <a:ext cx="233028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92360" y="326520"/>
            <a:ext cx="85802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679400" y="1373040"/>
            <a:ext cx="6840720" cy="54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izoid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 four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Neither desires nor enjoys close relationship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lmost always chooses solitud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ittle if any interest in sexual relationship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akes pleasure in few activit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acks close frien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different to praise or criticis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Emotional coldness, detachment or flatn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3" name="Picture 2" descr="http://t2.gstatic.com/images?q=tbn:8GjaUBb2QNl9FM:http://www.ericscheske.com/blog/wp-content/uploads/2008/10/schizoi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1880" y="297180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360" y="152280"/>
            <a:ext cx="8580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79040" y="1372680"/>
            <a:ext cx="651204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social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s three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Failure to conform to lawful behavi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Deceitfuln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mpulsiv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rritability or aggressiven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ckless disregard for safety of self and oth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istent irresponsi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ack of remor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6" name="Picture 6" descr="http://tbn1.google.com/images?q=tbn:dGQhUQtpVF4LAM:http://i.ehow.com/images/GlobalPhoto/Articles/4560241/Hannibal-main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66240" y="2019240"/>
            <a:ext cx="2209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tisocial Personality Disord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side from substance use disorders, this is the disorder most linked to adult criminal behavi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DSM-5 requires that a person be at lea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18 years of ag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receive this diagnosi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ost people with an antisocial personality disorder displayed some patterns of misbehavior before they were 15 years old (conduct disorder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598B4-DA13-47DE-86EA-D2508A151EC4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19:11:42Z</dcterms:created>
  <dc:creator>Julie Hanauer</dc:creator>
  <dc:description/>
  <dc:language>en-US</dc:language>
  <cp:lastModifiedBy>Staff</cp:lastModifiedBy>
  <dcterms:modified xsi:type="dcterms:W3CDTF">2016-09-08T03:46:21Z</dcterms:modified>
  <cp:revision>19</cp:revision>
  <dc:subject/>
  <dc:title>PowerPoint Presentation</dc:title>
</cp:coreProperties>
</file>